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6.wmf" ContentType="image/x-wmf"/>
  <Override PartName="/ppt/media/image12.jpeg" ContentType="image/jpeg"/>
  <Override PartName="/ppt/media/image7.jpeg" ContentType="image/jpeg"/>
  <Override PartName="/ppt/media/image5.wmf" ContentType="image/x-wmf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4.gif" ContentType="image/gif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A4E4-D329-44FC-A0B6-EB76BCD42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B678-5EA6-43D9-8531-9927DC8E84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ngsana New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AD9-A9A4-404A-8D26-5F49076B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6EE-B34A-4C1C-9473-B099650F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988-7DB0-4988-AB0B-CD9CA43D5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20E8-F039-43F8-A32C-E45BCD39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892D-EB65-438D-A222-A8A3DA605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4E5A-92C9-40DD-AA8B-AB1B48F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49EF-8549-49B5-985A-88C0460B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CFCE-F41F-41B6-A8BE-EBF0B111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C2E88-4071-4A6B-8E53-6584D4E4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400E-AA3C-4FB9-B6EE-B74589F8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E402E-A977-40E5-B4A7-4DE95355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986-1E85-49BC-9530-BCC2655A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DBDA-1676-4999-AA3B-BFF74E42F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AFFB-9B26-43B9-A277-BF652C65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DE3F1-D02A-4E7D-95A4-A60BA543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6B335-F896-4D1E-AF0C-C61303691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BCF8-19D8-4656-AF42-4EE0B1587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2EBC-53E5-409F-BDFB-F58FF6CC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CE9-70FC-4071-9E40-958421450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784-BA13-46C8-831C-79C82243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A0A3-6ED8-49F0-B271-8B63E6D0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54B0-860A-4ECA-AED4-BB6FB983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7916-BEFF-4EB4-9777-A3982DD78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DC3-77AC-4546-950B-025498E7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CD860-2F4E-4816-8584-A94A0CC4783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6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6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2F942-3045-476D-B48A-211EB96DCC0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9280" y="-171360"/>
            <a:ext cx="8785440" cy="355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JasmineUPC"/>
                <a:cs typeface="JasmineUPC"/>
              </a:rPr>
              <a:t>การประชุมผู้บริหาร ครูและบุคลากรทางการศึกษาผ่านช่องทาง </a:t>
            </a:r>
            <a:r>
              <a:rPr b="1" lang="en-US" sz="5400" spc="-1" strike="noStrike">
                <a:solidFill>
                  <a:srgbClr val="ffff00"/>
                </a:solidFill>
                <a:latin typeface="JasmineUPC"/>
                <a:ea typeface="JasmineUPC"/>
              </a:rPr>
              <a:t>On Line</a:t>
            </a:r>
            <a:br>
              <a:rPr sz="5400"/>
            </a:br>
            <a:r>
              <a:rPr b="1" lang="th-TH" sz="5400" spc="-1" strike="noStrike">
                <a:solidFill>
                  <a:srgbClr val="ffff00"/>
                </a:solidFill>
                <a:latin typeface="JasmineUPC"/>
                <a:cs typeface="JasmineUPC"/>
              </a:rPr>
              <a:t>เพื่อแลกเปลี่ยนเรียนรู้ สู่การปฏิบัติงาน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10920" y="3068640"/>
            <a:ext cx="7543800" cy="33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JasmineUPC"/>
                <a:cs typeface="JasmineUPC"/>
              </a:rPr>
              <a:t>วันที่ ๒๗  ตุลาคม ๒๕๖๕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JasmineUPC"/>
                <a:cs typeface="JasmineUPC"/>
              </a:rPr>
              <a:t>ณ</a:t>
            </a:r>
            <a:r>
              <a:rPr b="1" lang="th-TH" sz="6000" spc="-1" strike="noStrike">
                <a:solidFill>
                  <a:srgbClr val="ffffff"/>
                </a:solidFill>
                <a:latin typeface="JasmineUPC"/>
                <a:ea typeface="JasmineUPC"/>
              </a:rPr>
              <a:t>.</a:t>
            </a:r>
            <a:r>
              <a:rPr b="1" lang="th-TH" sz="6000" spc="-1" strike="noStrike">
                <a:solidFill>
                  <a:srgbClr val="ffffff"/>
                </a:solidFill>
                <a:latin typeface="JasmineUPC"/>
                <a:cs typeface="JasmineUPC"/>
              </a:rPr>
              <a:t>ห้องประชุมไพรลิน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ff"/>
                </a:solidFill>
                <a:latin typeface="JasmineUPC"/>
                <a:cs typeface="JasmineUPC"/>
              </a:rPr>
              <a:t>สพป</a:t>
            </a:r>
            <a:r>
              <a:rPr b="1" lang="th-TH" sz="6000" spc="-1" strike="noStrike">
                <a:solidFill>
                  <a:srgbClr val="ffffff"/>
                </a:solidFill>
                <a:latin typeface="JasmineUPC"/>
                <a:ea typeface="JasmineUPC"/>
              </a:rPr>
              <a:t>. </a:t>
            </a:r>
            <a:r>
              <a:rPr b="1" lang="th-TH" sz="6000" spc="-1" strike="noStrike">
                <a:solidFill>
                  <a:srgbClr val="ffffff"/>
                </a:solidFill>
                <a:latin typeface="JasmineUPC"/>
                <a:cs typeface="JasmineUPC"/>
              </a:rPr>
              <a:t>ศรีสะเกษ เขต ๑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 rot="5400000">
            <a:off x="2735280" y="945000"/>
            <a:ext cx="5977080" cy="4753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logo_1"/>
          <p:cNvPicPr/>
          <p:nvPr/>
        </p:nvPicPr>
        <p:blipFill>
          <a:blip r:embed="rId2"/>
          <a:stretch/>
        </p:blipFill>
        <p:spPr>
          <a:xfrm>
            <a:off x="250920" y="476280"/>
            <a:ext cx="1081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    </a:t>
            </a: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มิติการมอง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 rot="5400000">
            <a:off x="3039480" y="1072800"/>
            <a:ext cx="54007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c000"/>
                </a:solidFill>
                <a:latin typeface="TH SarabunIT๙"/>
                <a:cs typeface="TH SarabunIT๙"/>
              </a:rPr>
              <a:t>ข้อราชการ เพื่อนำสู่การปฏิบัติ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8000" y="1981080"/>
            <a:ext cx="850248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๑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ดำเนินการ บริหารจัดการในสถานการณ์น้ำมาก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- 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รวมน้ำใจส่งความสุขครู นักเรียนเร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-  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บริหารจัดการหลังน้ำลด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- </a:t>
            </a:r>
            <a:r>
              <a:rPr b="1" lang="th-TH" sz="4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จัดการเรียนการสอน ในกรณี โรงเรียนไม่สามารถเปิดเรียนได้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ตัวแทนเนื้อหา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8567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ตัวแทนเนื้อหา 3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13800" cy="64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324000" y="765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๒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ร่วมสร้างบุญบารมี                                                                     “ กฐิน  สพฐ ปี ๒๕๖๕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 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พลังบุญ จำนวน  ๒๑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,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๕๒๒  บา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 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ส่งมอบร่วมบุญ สพฐ ๒๐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,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๑๙๙ บา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คงเหลือ   ๑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,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๓๒๓  บาท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324000" y="76500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๒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ร่วมสร้างบุญบารมี                                                                     “ กฐิน สพป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ศรีสะเกษ เขต ๑ ปี ๒๕๖๕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วันที่  ๗ ตุลาคม ๒๕๖๕    ตั้งกองกฐิน                             ที่ สพป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ศรีสะเกษ เขต ๑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วันที่ ๘ ตุลาคม ๒๕๖๕  ทอกกฐิน              ที่วัดกลางสุนทราวาส ต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โพธิ์ อ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เมือ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ตัวแทนเนื้อหา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9298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ตัวแทนเนื้อหา 4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8785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24000" y="765000"/>
            <a:ext cx="8496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h-TH" sz="66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๓</a:t>
            </a:r>
            <a:r>
              <a:rPr b="1" lang="th-TH" sz="66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66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จัดกิจกรรมเตรียมความพร้อมก่อนเปิดเรียน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  </a:t>
            </a:r>
            <a:r>
              <a:rPr b="1" lang="th-TH" sz="66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๙ วัน  ๙ ความพร้อม พาน้องมาเรียนอย่างมีสุข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115920"/>
            <a:ext cx="8286480" cy="23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JasmineUPC"/>
                <a:cs typeface="JasmineUPC"/>
              </a:rPr>
              <a:t>เหตุผลของการเสนอตัวเองมาปฏิบัติงานที่ สพป</a:t>
            </a:r>
            <a:r>
              <a:rPr b="1" lang="th-TH" sz="5400" spc="-1" strike="noStrike">
                <a:solidFill>
                  <a:srgbClr val="ffff00"/>
                </a:solidFill>
                <a:latin typeface="JasmineUPC"/>
                <a:ea typeface="JasmineUPC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JasmineUPC"/>
                <a:cs typeface="JasmineUPC"/>
              </a:rPr>
              <a:t>ศรีสะเกษ เขต ๑  </a:t>
            </a: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8000" y="230004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JasmineUPC"/>
                <a:cs typeface="JasmineUPC"/>
              </a:rPr>
              <a:t>๑</a:t>
            </a:r>
            <a:r>
              <a:rPr b="1" lang="th-TH" sz="5400" spc="-1" strike="noStrike">
                <a:solidFill>
                  <a:srgbClr val="ffff00"/>
                </a:solidFill>
                <a:latin typeface="JasmineUPC"/>
                <a:ea typeface="JasmineUPC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JasmineUPC"/>
                <a:cs typeface="JasmineUPC"/>
              </a:rPr>
              <a:t>ที่นี่คือ บ้านผ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c000"/>
                </a:solidFill>
                <a:latin typeface="JasmineUPC"/>
                <a:cs typeface="JasmineUPC"/>
              </a:rPr>
              <a:t>๒</a:t>
            </a:r>
            <a:r>
              <a:rPr b="1" lang="th-TH" sz="5400" spc="-1" strike="noStrike">
                <a:solidFill>
                  <a:srgbClr val="ffc000"/>
                </a:solidFill>
                <a:latin typeface="JasmineUPC"/>
                <a:ea typeface="JasmineUPC"/>
              </a:rPr>
              <a:t>. </a:t>
            </a:r>
            <a:r>
              <a:rPr b="1" lang="th-TH" sz="5400" spc="-1" strike="noStrike">
                <a:solidFill>
                  <a:srgbClr val="ffc000"/>
                </a:solidFill>
                <a:latin typeface="JasmineUPC"/>
                <a:cs typeface="JasmineUPC"/>
              </a:rPr>
              <a:t>ทุกท่านคือ พี่ เพื่อน น้อง ผ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3300"/>
                </a:solidFill>
                <a:latin typeface="JasmineUPC"/>
                <a:cs typeface="JasmineUPC"/>
              </a:rPr>
              <a:t>๓</a:t>
            </a:r>
            <a:r>
              <a:rPr b="1" lang="th-TH" sz="5400" spc="-1" strike="noStrike">
                <a:solidFill>
                  <a:srgbClr val="ff3300"/>
                </a:solidFill>
                <a:latin typeface="JasmineUPC"/>
                <a:ea typeface="JasmineUPC"/>
              </a:rPr>
              <a:t>. </a:t>
            </a:r>
            <a:r>
              <a:rPr b="1" lang="th-TH" sz="5400" spc="-1" strike="noStrike">
                <a:solidFill>
                  <a:srgbClr val="ff3300"/>
                </a:solidFill>
                <a:latin typeface="JasmineUPC"/>
                <a:cs typeface="JasmineUPC"/>
              </a:rPr>
              <a:t>นักเรียนทุกคน  คือ  ลูกหลานผม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JasmineUPC"/>
                <a:cs typeface="JasmineUPC"/>
              </a:rPr>
              <a:t>๔</a:t>
            </a:r>
            <a:r>
              <a:rPr b="1" lang="th-TH" sz="5400" spc="-1" strike="noStrike">
                <a:solidFill>
                  <a:srgbClr val="ffffff"/>
                </a:solidFill>
                <a:latin typeface="JasmineUPC"/>
                <a:ea typeface="JasmineUPC"/>
              </a:rPr>
              <a:t>. </a:t>
            </a:r>
            <a:r>
              <a:rPr b="1" lang="th-TH" sz="5400" spc="-1" strike="noStrike">
                <a:solidFill>
                  <a:srgbClr val="ffffff"/>
                </a:solidFill>
                <a:latin typeface="JasmineUPC"/>
                <a:cs typeface="JasmineUPC"/>
              </a:rPr>
              <a:t>เพราะสพป</a:t>
            </a:r>
            <a:r>
              <a:rPr b="1" lang="th-TH" sz="5400" spc="-1" strike="noStrike">
                <a:solidFill>
                  <a:srgbClr val="ffffff"/>
                </a:solidFill>
                <a:latin typeface="JasmineUPC"/>
                <a:ea typeface="JasmineUPC"/>
              </a:rPr>
              <a:t>.</a:t>
            </a:r>
            <a:r>
              <a:rPr b="1" lang="th-TH" sz="5400" spc="-1" strike="noStrike">
                <a:solidFill>
                  <a:srgbClr val="ffffff"/>
                </a:solidFill>
                <a:latin typeface="JasmineUPC"/>
                <a:cs typeface="JasmineUPC"/>
              </a:rPr>
              <a:t>ศรีสะเกษ เขต ๑                         คือ บ้านของเรา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ตัวแทนเนื้อหา 3" descr=""/>
          <p:cNvPicPr/>
          <p:nvPr/>
        </p:nvPicPr>
        <p:blipFill>
          <a:blip r:embed="rId1"/>
          <a:stretch/>
        </p:blipFill>
        <p:spPr>
          <a:xfrm>
            <a:off x="1042920" y="115920"/>
            <a:ext cx="705816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eaeaea"/>
                </a:solidFill>
                <a:latin typeface="Tahoma"/>
              </a:rPr>
              <a:t>จุดเน้น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h-TH" sz="6600" spc="-1" strike="noStrike">
                <a:solidFill>
                  <a:srgbClr val="ffffff"/>
                </a:solidFill>
                <a:latin typeface="TH Mali Grade 6"/>
                <a:cs typeface="TH Mali Grade 6"/>
              </a:rPr>
              <a:t>การตรวจสอบ ยืนยัน นักเรียนที่สามารถมาเรียนได้ หรือมีตัวตนในเขตบริการเราจริง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79280" y="188640"/>
            <a:ext cx="8569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๔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นิเทศ ตรวจเยี่ยม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    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ารเปิดภาคเรียนที่ ๒ ปีการศึกษา ๒๕๖๕  เป้าหมาย ๑๐๐ </a:t>
            </a:r>
            <a:r>
              <a:rPr b="1" lang="en-US" sz="60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% 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                     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ภายใน  ๑๕ พฤษภาคม ๒๕๖๕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 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คณะนิเทศน์ ท่านรองผอเขต ผอ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กลุ่ม ศึกษานิเทศฯ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th-TH" sz="8000" spc="-1" strike="noStrike">
                <a:solidFill>
                  <a:srgbClr val="ffc000"/>
                </a:solidFill>
                <a:latin typeface="Tahoma"/>
              </a:rPr>
              <a:t>ภารกิจหลักของ การนิเทศ</a:t>
            </a:r>
            <a:endParaRPr b="1" lang="en-US" sz="8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24000" y="198108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๑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ea typeface="TH Mali Grade 6"/>
              </a:rPr>
              <a:t>. 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รับข้อมูล ความต้องการ ปัญหา ในการเปิดเรีย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๒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ea typeface="TH Mali Grade 6"/>
              </a:rPr>
              <a:t>. 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ต้องการข้อมูล นักเรียน ครู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๓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ea typeface="TH Mali Grade 6"/>
              </a:rPr>
              <a:t>. 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ให้ข้อเสนอแนะ คำปรึกษา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๔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ea typeface="TH Mali Grade 6"/>
              </a:rPr>
              <a:t>. </a:t>
            </a:r>
            <a:r>
              <a:rPr b="1" lang="th-TH" sz="4800" spc="-1" strike="noStrike">
                <a:solidFill>
                  <a:srgbClr val="ffff00"/>
                </a:solidFill>
                <a:latin typeface="TH Mali Grade 6"/>
                <a:cs typeface="TH Mali Grade 6"/>
              </a:rPr>
              <a:t>ให้กำลังใจ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42560" y="115560"/>
            <a:ext cx="75675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๕</a:t>
            </a: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การดูแลความปลอดภัยของ ครู นักเรียน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ตัวแทนเนื้อหา 4" descr=""/>
          <p:cNvPicPr/>
          <p:nvPr/>
        </p:nvPicPr>
        <p:blipFill>
          <a:blip r:embed="rId1"/>
          <a:stretch/>
        </p:blipFill>
        <p:spPr>
          <a:xfrm>
            <a:off x="826920" y="614520"/>
            <a:ext cx="7783560" cy="61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560" y="3168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3300"/>
                </a:solidFill>
                <a:latin typeface="Tahoma"/>
              </a:rPr>
              <a:t>๖</a:t>
            </a:r>
            <a:r>
              <a:rPr b="1" lang="th-TH" sz="6000" spc="-1" strike="noStrike">
                <a:solidFill>
                  <a:srgbClr val="ff3300"/>
                </a:solidFill>
                <a:latin typeface="Tahoma"/>
              </a:rPr>
              <a:t>. </a:t>
            </a:r>
            <a:r>
              <a:rPr b="1" lang="th-TH" sz="6000" spc="-1" strike="noStrike">
                <a:solidFill>
                  <a:srgbClr val="ff3300"/>
                </a:solidFill>
                <a:latin typeface="Tahoma"/>
              </a:rPr>
              <a:t>เรื่อง ที่เน้นย้ำในการดำเนินการ</a:t>
            </a:r>
            <a:endParaRPr b="1" lang="en-US" sz="6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08000" y="134100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๖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. 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๑  การละเมิด และความรุนแรงต่อเด็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๖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๒  การบริหารงบประมาณ ที่ต้องเป็นไปตามระเบียบ โปร่งใส ตรวจสอบได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๖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,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๓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.  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การบริหารอาหารกลางวัน อาหารเสริม 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( 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นม 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๖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๔  การบริหารเงิน ทุนนักเรียน ทุกโครงกา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๖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๕  การเกี่ยวข้องกับ อบายมุขในทุกประเภท ในสถานที่ราชการตามที่ระเบียบกำหนด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๖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ea typeface="TH Fah kwang"/>
              </a:rPr>
              <a:t>.</a:t>
            </a:r>
            <a:r>
              <a:rPr b="0" lang="th-TH" sz="3200" spc="-1" strike="noStrike">
                <a:solidFill>
                  <a:srgbClr val="ffff00"/>
                </a:solidFill>
                <a:latin typeface="TH Fah kwang"/>
                <a:cs typeface="TH Fah kwang"/>
              </a:rPr>
              <a:t>๖    การปฏิบัติตนตามจรรยาบรรณวิชาชีพ และระเบียบราชกา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๗</a:t>
            </a: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. </a:t>
            </a: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ข้อหารือเพื่อพิจารณาดำเนินการ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87280" y="1224000"/>
            <a:ext cx="8856720" cy="56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๑ การจัดคตั้ง กลุ่ม  </a:t>
            </a:r>
            <a:r>
              <a:rPr b="1" lang="en-US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LINE   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แจ้งข้อราชการ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๒ การระดมทุน เพื่อดูแลช่วยเหลือ นักเรียน ครู บุคลากรที่ได้รับความเดือดร้อน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๓ การอบรม ครูรุ่นใหม่ จำนวน ๑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,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๕๐๐ คน 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(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ตั้งแต่ปี ๒๕๕๘ ถึง ๒๕๖๕ 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๔  การจัดกิจกรรม  กีฬานักเรียน ปี ๒๕๖๖ 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( 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ม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ค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 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๖๖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๕  กิจกรรมวันครู ปี ๒๕๖๖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๖  การประชุม ผู้บริหาร ครู และบุคลากร พบผู้ว่าฯ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ea typeface="TH Fah kwang"/>
              </a:rPr>
              <a:t>.</a:t>
            </a:r>
            <a:r>
              <a:rPr b="1" lang="th-TH" sz="3600" spc="-1" strike="noStrike">
                <a:solidFill>
                  <a:srgbClr val="ffffff"/>
                </a:solidFill>
                <a:latin typeface="TH Fah kwang"/>
                <a:cs typeface="TH Fah kwang"/>
              </a:rPr>
              <a:t>๗  การบริหารอัตรากำลั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26560" y="836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00"/>
                </a:solidFill>
                <a:latin typeface="Cambria Math"/>
                <a:cs typeface="Cambria Math"/>
              </a:rPr>
              <a:t>๘</a:t>
            </a:r>
            <a:r>
              <a:rPr b="0" lang="th-TH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. </a:t>
            </a:r>
            <a:r>
              <a:rPr b="0" lang="th-TH" sz="6600" spc="-1" strike="noStrike">
                <a:solidFill>
                  <a:srgbClr val="ffff00"/>
                </a:solidFill>
                <a:latin typeface="Cambria Math"/>
                <a:cs typeface="Cambria Math"/>
              </a:rPr>
              <a:t>ภารกิจที่มอบหมาย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ffff00"/>
                </a:solidFill>
                <a:latin typeface="Cambria Math"/>
                <a:ea typeface="Cambria Math"/>
              </a:rPr>
              <a:t>     </a:t>
            </a:r>
            <a:r>
              <a:rPr b="0" lang="th-TH" sz="6600" spc="-1" strike="noStrike">
                <a:solidFill>
                  <a:srgbClr val="ffff00"/>
                </a:solidFill>
                <a:latin typeface="Cambria Math"/>
                <a:cs typeface="Cambria Math"/>
              </a:rPr>
              <a:t>ให้เราร่วมดำเนินการ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ตัวแทนเนื้อหา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ตัวแทนเนื้อหา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304560"/>
            <a:ext cx="8928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JasmineUPC"/>
                <a:ea typeface="JasmineUPC"/>
              </a:rPr>
              <a:t>           </a:t>
            </a:r>
            <a:r>
              <a:rPr b="1" lang="th-TH" sz="4800" spc="-1" strike="noStrike">
                <a:solidFill>
                  <a:srgbClr val="ffffff"/>
                </a:solidFill>
                <a:latin typeface="JasmineUPC"/>
                <a:cs typeface="JasmineUPC"/>
              </a:rPr>
              <a:t>กรอบแนวคิดในการบริหารจัดการ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971280" y="2276640"/>
            <a:ext cx="75438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ff00"/>
                </a:solidFill>
                <a:latin typeface="JasmineUPC"/>
                <a:cs typeface="JasmineUPC"/>
              </a:rPr>
              <a:t>๑</a:t>
            </a:r>
            <a:r>
              <a:rPr b="1" lang="th-TH" sz="6600" spc="-1" strike="noStrike">
                <a:solidFill>
                  <a:srgbClr val="00ff00"/>
                </a:solidFill>
                <a:latin typeface="JasmineUPC"/>
                <a:ea typeface="JasmineUPC"/>
              </a:rPr>
              <a:t>. </a:t>
            </a:r>
            <a:r>
              <a:rPr b="1" lang="th-TH" sz="6600" spc="-1" strike="noStrike">
                <a:solidFill>
                  <a:srgbClr val="00ff00"/>
                </a:solidFill>
                <a:latin typeface="JasmineUPC"/>
                <a:cs typeface="JasmineUPC"/>
              </a:rPr>
              <a:t>บริษัท หรือ ครอบครัว                           สพป</a:t>
            </a:r>
            <a:r>
              <a:rPr b="1" lang="th-TH" sz="6600" spc="-1" strike="noStrike">
                <a:solidFill>
                  <a:srgbClr val="00ff00"/>
                </a:solidFill>
                <a:latin typeface="JasmineUPC"/>
                <a:ea typeface="JasmineUPC"/>
              </a:rPr>
              <a:t>. </a:t>
            </a:r>
            <a:r>
              <a:rPr b="1" lang="th-TH" sz="6600" spc="-1" strike="noStrike">
                <a:solidFill>
                  <a:srgbClr val="00ff00"/>
                </a:solidFill>
                <a:latin typeface="JasmineUPC"/>
                <a:cs typeface="JasmineUPC"/>
              </a:rPr>
              <a:t>ศรีสะเกษ เขต ๑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00ff00"/>
                </a:solidFill>
                <a:latin typeface="JasmineUPC"/>
                <a:cs typeface="JasmineUPC"/>
              </a:rPr>
              <a:t>แห่งความสุข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6560" y="1125000"/>
            <a:ext cx="7543800" cy="25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Sitka Small"/>
                <a:cs typeface="Microsoft YaHei"/>
              </a:rPr>
              <a:t>๗</a:t>
            </a:r>
            <a:r>
              <a:rPr b="1" lang="th-TH" sz="6000" spc="-1" strike="noStrike">
                <a:solidFill>
                  <a:srgbClr val="ffff00"/>
                </a:solidFill>
                <a:latin typeface="Sitka Small"/>
                <a:ea typeface="Microsoft YaHei"/>
              </a:rPr>
              <a:t>. </a:t>
            </a:r>
            <a:r>
              <a:rPr b="1" lang="th-TH" sz="6000" spc="-1" strike="noStrike">
                <a:solidFill>
                  <a:srgbClr val="ffff00"/>
                </a:solidFill>
                <a:latin typeface="Sitka Small"/>
                <a:cs typeface="Microsoft YaHei"/>
              </a:rPr>
              <a:t>ภารงานที่มอบหมายให้                  พี่น้องเราไปดำเนินการ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รูปภาพ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  <p:pic>
        <p:nvPicPr>
          <p:cNvPr id="165" name="รูปภาพ 3" descr=""/>
          <p:cNvPicPr/>
          <p:nvPr/>
        </p:nvPicPr>
        <p:blipFill>
          <a:blip r:embed="rId2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26560" y="692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00"/>
                </a:solidFill>
                <a:latin typeface="Kanit Thin"/>
                <a:cs typeface="Kanit Thin"/>
              </a:rPr>
              <a:t>๘</a:t>
            </a:r>
            <a:r>
              <a:rPr b="1" lang="th-TH" sz="5400" spc="-1" strike="noStrike">
                <a:solidFill>
                  <a:srgbClr val="ffff00"/>
                </a:solidFill>
                <a:latin typeface="Kanit Thin"/>
                <a:ea typeface="Kanit Thin"/>
              </a:rPr>
              <a:t>. </a:t>
            </a:r>
            <a:r>
              <a:rPr b="1" lang="th-TH" sz="5400" spc="-1" strike="noStrike">
                <a:solidFill>
                  <a:srgbClr val="ffff00"/>
                </a:solidFill>
                <a:latin typeface="Kanit Thin"/>
                <a:cs typeface="Kanit Thin"/>
              </a:rPr>
              <a:t>เรื่อง อื่น ๆ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ตัวแทนเนื้อหา 3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untitled37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ตัวแทนเนื้อหา 4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8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th-TH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1" name="Picture 4" descr="no-quit1"/>
          <p:cNvPicPr/>
          <p:nvPr/>
        </p:nvPicPr>
        <p:blipFill>
          <a:blip r:embed="rId1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99640" y="1484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000000"/>
                </a:solidFill>
                <a:latin typeface="Cambria Math"/>
                <a:cs typeface="Cambria Math"/>
              </a:rPr>
              <a:t>สิทธิประโยชน์และประโยชน์ทับซ้อน 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0" spc="-1" strike="noStrike">
                <a:solidFill>
                  <a:srgbClr val="000000"/>
                </a:solidFill>
                <a:latin typeface="Cambria Math"/>
                <a:cs typeface="Cambria Math"/>
              </a:rPr>
              <a:t>การปฏิบัติราชการ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ตัวแทนเนื้อหา 3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08000" y="90792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๒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. 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สโลแกน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  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สพป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.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ศรีสะเกษ เขต ๑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“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วิถีใหม่   หัวใจคุณธรรม</a:t>
            </a:r>
            <a:r>
              <a:rPr b="0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”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71600" y="404640"/>
            <a:ext cx="813744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๓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. 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หลักคิด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 “ 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กายภาพ สู่คุณภาพ “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(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cs typeface="JasmineUPC"/>
              </a:rPr>
              <a:t>กายภาพ หมายถึง การปฏิบัติทุกอย่างต้องเป็นรูปธรรม             จับต้องได้ </a:t>
            </a:r>
            <a:r>
              <a:rPr b="1" lang="th-TH" sz="6600" spc="-1" strike="noStrike">
                <a:solidFill>
                  <a:srgbClr val="ffff00"/>
                </a:solidFill>
                <a:latin typeface="JasmineUPC"/>
                <a:ea typeface="JasmineUPC"/>
              </a:rPr>
              <a:t>)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08000" y="1268280"/>
            <a:ext cx="885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๔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. </a:t>
            </a:r>
            <a:r>
              <a:rPr b="1" lang="th-TH" sz="60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คุณธรรมองค์กร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200" spc="-1" strike="noStrike">
                <a:solidFill>
                  <a:srgbClr val="ffff00"/>
                </a:solidFill>
                <a:latin typeface="TH SarabunIT๙"/>
                <a:ea typeface="TH SarabunIT๙"/>
              </a:rPr>
              <a:t> “ </a:t>
            </a:r>
            <a:r>
              <a:rPr b="1" lang="th-TH" sz="6200" spc="-1" strike="noStrike">
                <a:solidFill>
                  <a:srgbClr val="ffff00"/>
                </a:solidFill>
                <a:latin typeface="TH SarabunIT๙"/>
                <a:cs typeface="TH SarabunIT๙"/>
              </a:rPr>
              <a:t>น้ำใจงาม  วินัยเข้ม  รับผิดชอบสูง ” </a:t>
            </a:r>
            <a:endParaRPr b="0" lang="en-US" sz="6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0560" y="1413000"/>
            <a:ext cx="8288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JasmineUPC"/>
                <a:cs typeface="JasmineUPC"/>
              </a:rPr>
              <a:t>๕</a:t>
            </a:r>
            <a:r>
              <a:rPr b="1" lang="th-TH" sz="4800" spc="-1" strike="noStrike">
                <a:solidFill>
                  <a:srgbClr val="ffffff"/>
                </a:solidFill>
                <a:latin typeface="JasmineUPC"/>
                <a:ea typeface="JasmineUPC"/>
              </a:rPr>
              <a:t>. </a:t>
            </a:r>
            <a:r>
              <a:rPr b="1" lang="th-TH" sz="4800" spc="-1" strike="noStrike">
                <a:solidFill>
                  <a:srgbClr val="ffffff"/>
                </a:solidFill>
                <a:latin typeface="JasmineUPC"/>
                <a:cs typeface="JasmineUPC"/>
              </a:rPr>
              <a:t>หลักการปฏิบัติงาน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JasmineUPC"/>
                <a:ea typeface="JasmineUPC"/>
              </a:rPr>
              <a:t> “ </a:t>
            </a:r>
            <a:r>
              <a:rPr b="1" lang="th-TH" sz="4800" spc="-1" strike="noStrike">
                <a:solidFill>
                  <a:srgbClr val="ffff00"/>
                </a:solidFill>
                <a:latin typeface="JasmineUPC"/>
                <a:cs typeface="JasmineUPC"/>
              </a:rPr>
              <a:t>บริการด้วยใจ    ยึดในระเบียบ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00"/>
                </a:solidFill>
                <a:latin typeface="JasmineUPC"/>
                <a:cs typeface="JasmineUPC"/>
              </a:rPr>
              <a:t>เปรียบเทียบเป้าหมาย   ทุกฝ่ายพึงพอใจ ”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 rot="5400000">
            <a:off x="2844360" y="1123560"/>
            <a:ext cx="5904000" cy="489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logo_1"/>
          <p:cNvPicPr/>
          <p:nvPr/>
        </p:nvPicPr>
        <p:blipFill>
          <a:blip r:embed="rId2"/>
          <a:stretch/>
        </p:blipFill>
        <p:spPr>
          <a:xfrm>
            <a:off x="0" y="260280"/>
            <a:ext cx="108108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Lock"/>
          <p:cNvSpPr/>
          <p:nvPr/>
        </p:nvSpPr>
        <p:spPr>
          <a:xfrm>
            <a:off x="2811600" y="2643120"/>
            <a:ext cx="3475080" cy="4025880"/>
          </a:xfrm>
          <a:custGeom>
            <a:avLst/>
            <a:gdLst>
              <a:gd name="textAreaLeft" fmla="*/ 119520 w 3475080"/>
              <a:gd name="textAreaRight" fmla="*/ 3400200 w 3475080"/>
              <a:gd name="textAreaTop" fmla="*/ 1846080 h 4025880"/>
              <a:gd name="textAreaBottom" fmla="*/ 2858400 h 4025880"/>
            </a:gdLst>
            <a:ahLst/>
            <a:rect l="textAreaLeft" t="textAreaTop" r="textAreaRight" b="textAreaBottom"/>
            <a:pathLst>
              <a:path w="21600" h="21600">
                <a:moveTo>
                  <a:pt x="93" y="9606"/>
                </a:moveTo>
                <a:lnTo>
                  <a:pt x="2048" y="9606"/>
                </a:lnTo>
                <a:lnTo>
                  <a:pt x="2048" y="4713"/>
                </a:lnTo>
                <a:lnTo>
                  <a:pt x="2420" y="3818"/>
                </a:lnTo>
                <a:lnTo>
                  <a:pt x="2979" y="3028"/>
                </a:lnTo>
                <a:lnTo>
                  <a:pt x="3537" y="2446"/>
                </a:lnTo>
                <a:lnTo>
                  <a:pt x="3956" y="1998"/>
                </a:lnTo>
                <a:lnTo>
                  <a:pt x="4492" y="1581"/>
                </a:lnTo>
                <a:lnTo>
                  <a:pt x="5143" y="1238"/>
                </a:lnTo>
                <a:lnTo>
                  <a:pt x="5912" y="880"/>
                </a:lnTo>
                <a:lnTo>
                  <a:pt x="6587" y="641"/>
                </a:lnTo>
                <a:lnTo>
                  <a:pt x="7518" y="372"/>
                </a:lnTo>
                <a:lnTo>
                  <a:pt x="8425" y="208"/>
                </a:lnTo>
                <a:lnTo>
                  <a:pt x="9496" y="59"/>
                </a:lnTo>
                <a:lnTo>
                  <a:pt x="10637" y="14"/>
                </a:lnTo>
                <a:lnTo>
                  <a:pt x="11614" y="59"/>
                </a:lnTo>
                <a:lnTo>
                  <a:pt x="12382" y="119"/>
                </a:lnTo>
                <a:lnTo>
                  <a:pt x="13034" y="253"/>
                </a:lnTo>
                <a:lnTo>
                  <a:pt x="13779" y="417"/>
                </a:lnTo>
                <a:lnTo>
                  <a:pt x="14500" y="611"/>
                </a:lnTo>
                <a:lnTo>
                  <a:pt x="14733" y="686"/>
                </a:lnTo>
                <a:lnTo>
                  <a:pt x="14989" y="790"/>
                </a:lnTo>
                <a:lnTo>
                  <a:pt x="15175" y="865"/>
                </a:lnTo>
                <a:lnTo>
                  <a:pt x="15385" y="954"/>
                </a:lnTo>
                <a:lnTo>
                  <a:pt x="15431" y="969"/>
                </a:lnTo>
                <a:lnTo>
                  <a:pt x="15594" y="1059"/>
                </a:lnTo>
                <a:lnTo>
                  <a:pt x="15757" y="1148"/>
                </a:lnTo>
                <a:lnTo>
                  <a:pt x="15920" y="1267"/>
                </a:lnTo>
                <a:lnTo>
                  <a:pt x="16106" y="1372"/>
                </a:lnTo>
                <a:lnTo>
                  <a:pt x="16665" y="1730"/>
                </a:lnTo>
                <a:lnTo>
                  <a:pt x="17014" y="1998"/>
                </a:lnTo>
                <a:lnTo>
                  <a:pt x="17480" y="2356"/>
                </a:lnTo>
                <a:lnTo>
                  <a:pt x="17852" y="2804"/>
                </a:lnTo>
                <a:lnTo>
                  <a:pt x="18178" y="3192"/>
                </a:lnTo>
                <a:lnTo>
                  <a:pt x="18527" y="3639"/>
                </a:lnTo>
                <a:lnTo>
                  <a:pt x="18806" y="4132"/>
                </a:lnTo>
                <a:lnTo>
                  <a:pt x="19086" y="4713"/>
                </a:lnTo>
                <a:lnTo>
                  <a:pt x="19272" y="5191"/>
                </a:lnTo>
                <a:lnTo>
                  <a:pt x="19295" y="9606"/>
                </a:lnTo>
                <a:lnTo>
                  <a:pt x="21600" y="9606"/>
                </a:lnTo>
                <a:lnTo>
                  <a:pt x="21600" y="16289"/>
                </a:lnTo>
                <a:lnTo>
                  <a:pt x="21413" y="17184"/>
                </a:lnTo>
                <a:lnTo>
                  <a:pt x="21041" y="17900"/>
                </a:lnTo>
                <a:lnTo>
                  <a:pt x="20668" y="18377"/>
                </a:lnTo>
                <a:lnTo>
                  <a:pt x="20343" y="18855"/>
                </a:lnTo>
                <a:lnTo>
                  <a:pt x="19924" y="19332"/>
                </a:lnTo>
                <a:lnTo>
                  <a:pt x="19388" y="19809"/>
                </a:lnTo>
                <a:lnTo>
                  <a:pt x="18806" y="20242"/>
                </a:lnTo>
                <a:lnTo>
                  <a:pt x="18062" y="20585"/>
                </a:lnTo>
                <a:lnTo>
                  <a:pt x="17270" y="20883"/>
                </a:lnTo>
                <a:lnTo>
                  <a:pt x="16525" y="21182"/>
                </a:lnTo>
                <a:lnTo>
                  <a:pt x="15548" y="21420"/>
                </a:lnTo>
                <a:lnTo>
                  <a:pt x="14803" y="21540"/>
                </a:lnTo>
                <a:lnTo>
                  <a:pt x="13662" y="21674"/>
                </a:lnTo>
                <a:lnTo>
                  <a:pt x="8379" y="21659"/>
                </a:lnTo>
                <a:lnTo>
                  <a:pt x="7168" y="21540"/>
                </a:lnTo>
                <a:lnTo>
                  <a:pt x="6098" y="21331"/>
                </a:lnTo>
                <a:lnTo>
                  <a:pt x="5050" y="21092"/>
                </a:lnTo>
                <a:lnTo>
                  <a:pt x="4003" y="20764"/>
                </a:lnTo>
                <a:lnTo>
                  <a:pt x="3258" y="20391"/>
                </a:lnTo>
                <a:lnTo>
                  <a:pt x="2769" y="20123"/>
                </a:lnTo>
                <a:lnTo>
                  <a:pt x="2281" y="19720"/>
                </a:lnTo>
                <a:lnTo>
                  <a:pt x="1862" y="19407"/>
                </a:lnTo>
                <a:lnTo>
                  <a:pt x="1489" y="19079"/>
                </a:lnTo>
                <a:lnTo>
                  <a:pt x="1070" y="18676"/>
                </a:lnTo>
                <a:lnTo>
                  <a:pt x="744" y="18258"/>
                </a:lnTo>
                <a:lnTo>
                  <a:pt x="325" y="17661"/>
                </a:lnTo>
                <a:lnTo>
                  <a:pt x="162" y="17035"/>
                </a:lnTo>
                <a:lnTo>
                  <a:pt x="93" y="16468"/>
                </a:lnTo>
                <a:lnTo>
                  <a:pt x="93" y="9606"/>
                </a:lnTo>
                <a:close/>
                <a:moveTo>
                  <a:pt x="6098" y="9591"/>
                </a:moveTo>
                <a:lnTo>
                  <a:pt x="6098" y="5220"/>
                </a:lnTo>
                <a:lnTo>
                  <a:pt x="6191" y="4907"/>
                </a:lnTo>
                <a:lnTo>
                  <a:pt x="6307" y="4639"/>
                </a:lnTo>
                <a:lnTo>
                  <a:pt x="6517" y="4370"/>
                </a:lnTo>
                <a:lnTo>
                  <a:pt x="6680" y="4087"/>
                </a:lnTo>
                <a:lnTo>
                  <a:pt x="6889" y="3878"/>
                </a:lnTo>
                <a:lnTo>
                  <a:pt x="7308" y="3520"/>
                </a:lnTo>
                <a:lnTo>
                  <a:pt x="7843" y="3281"/>
                </a:lnTo>
                <a:lnTo>
                  <a:pt x="8402" y="3013"/>
                </a:lnTo>
                <a:lnTo>
                  <a:pt x="9031" y="2834"/>
                </a:lnTo>
                <a:lnTo>
                  <a:pt x="9659" y="2700"/>
                </a:lnTo>
                <a:lnTo>
                  <a:pt x="10497" y="2625"/>
                </a:lnTo>
                <a:lnTo>
                  <a:pt x="11125" y="2655"/>
                </a:lnTo>
                <a:lnTo>
                  <a:pt x="11987" y="2789"/>
                </a:lnTo>
                <a:lnTo>
                  <a:pt x="12522" y="2893"/>
                </a:lnTo>
                <a:lnTo>
                  <a:pt x="13011" y="3028"/>
                </a:lnTo>
                <a:lnTo>
                  <a:pt x="13290" y="3192"/>
                </a:lnTo>
                <a:lnTo>
                  <a:pt x="13709" y="3371"/>
                </a:lnTo>
                <a:lnTo>
                  <a:pt x="13872" y="3505"/>
                </a:lnTo>
                <a:lnTo>
                  <a:pt x="14058" y="3639"/>
                </a:lnTo>
                <a:lnTo>
                  <a:pt x="14291" y="3788"/>
                </a:lnTo>
                <a:lnTo>
                  <a:pt x="14431" y="3953"/>
                </a:lnTo>
                <a:lnTo>
                  <a:pt x="14617" y="4102"/>
                </a:lnTo>
                <a:lnTo>
                  <a:pt x="14826" y="4311"/>
                </a:lnTo>
                <a:lnTo>
                  <a:pt x="14919" y="4534"/>
                </a:lnTo>
                <a:lnTo>
                  <a:pt x="15036" y="4773"/>
                </a:lnTo>
                <a:lnTo>
                  <a:pt x="15175" y="5027"/>
                </a:lnTo>
                <a:lnTo>
                  <a:pt x="15245" y="5220"/>
                </a:lnTo>
                <a:lnTo>
                  <a:pt x="15245" y="9591"/>
                </a:lnTo>
                <a:lnTo>
                  <a:pt x="6098" y="9591"/>
                </a:lnTo>
                <a:close/>
              </a:path>
              <a:path w="21600" h="21600">
                <a:moveTo>
                  <a:pt x="93" y="9606"/>
                </a:moveTo>
                <a:lnTo>
                  <a:pt x="21600" y="9606"/>
                </a:lnTo>
                <a:lnTo>
                  <a:pt x="93" y="9606"/>
                </a:lnTo>
                <a:close/>
              </a:path>
              <a:path w="21600" h="21600">
                <a:moveTo>
                  <a:pt x="11684" y="17109"/>
                </a:moveTo>
                <a:lnTo>
                  <a:pt x="12266" y="19317"/>
                </a:lnTo>
                <a:lnTo>
                  <a:pt x="9659" y="19317"/>
                </a:lnTo>
                <a:lnTo>
                  <a:pt x="10287" y="17124"/>
                </a:lnTo>
                <a:lnTo>
                  <a:pt x="10008" y="16975"/>
                </a:lnTo>
                <a:lnTo>
                  <a:pt x="9799" y="16722"/>
                </a:lnTo>
                <a:lnTo>
                  <a:pt x="9752" y="16408"/>
                </a:lnTo>
                <a:lnTo>
                  <a:pt x="9822" y="16170"/>
                </a:lnTo>
                <a:lnTo>
                  <a:pt x="10008" y="16006"/>
                </a:lnTo>
                <a:lnTo>
                  <a:pt x="10148" y="15871"/>
                </a:lnTo>
                <a:lnTo>
                  <a:pt x="10381" y="15782"/>
                </a:lnTo>
                <a:lnTo>
                  <a:pt x="10660" y="15692"/>
                </a:lnTo>
                <a:lnTo>
                  <a:pt x="11009" y="15677"/>
                </a:lnTo>
                <a:lnTo>
                  <a:pt x="11288" y="15722"/>
                </a:lnTo>
                <a:lnTo>
                  <a:pt x="11614" y="15782"/>
                </a:lnTo>
                <a:lnTo>
                  <a:pt x="11893" y="15946"/>
                </a:lnTo>
                <a:lnTo>
                  <a:pt x="12033" y="16080"/>
                </a:lnTo>
                <a:lnTo>
                  <a:pt x="12173" y="16229"/>
                </a:lnTo>
                <a:lnTo>
                  <a:pt x="12196" y="16408"/>
                </a:lnTo>
                <a:lnTo>
                  <a:pt x="12103" y="16722"/>
                </a:lnTo>
                <a:lnTo>
                  <a:pt x="11987" y="16856"/>
                </a:lnTo>
                <a:lnTo>
                  <a:pt x="11847" y="16975"/>
                </a:lnTo>
                <a:lnTo>
                  <a:pt x="11684" y="17109"/>
                </a:lnTo>
              </a:path>
            </a:pathLst>
          </a:cu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239760" y="227160"/>
            <a:ext cx="8675640" cy="1556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800" spc="-1" strike="noStrike">
                <a:solidFill>
                  <a:srgbClr val="ffffff"/>
                </a:solidFill>
                <a:latin typeface="Tahoma"/>
                <a:cs typeface="KodchiangUPC"/>
              </a:rPr>
              <a:t>ผู้บริหารที่เป็นผู้นำการเปลี่ยนแปลง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500040" y="2781360"/>
            <a:ext cx="8001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0000"/>
                </a:solidFill>
                <a:latin typeface="Tahoma"/>
                <a:cs typeface="KodchiangUPC"/>
              </a:rPr>
              <a:t>ไม่ทำเหมือนสิ่งซึ่งเคยทำมาแล้ว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6000" spc="-1" strike="noStrike">
                <a:solidFill>
                  <a:srgbClr val="ff0000"/>
                </a:solidFill>
                <a:latin typeface="Tahoma"/>
                <a:cs typeface="KodchiangUPC"/>
              </a:rPr>
              <a:t>ในอดีต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708360" y="1197000"/>
            <a:ext cx="2077920" cy="1537560"/>
          </a:xfrm>
          <a:prstGeom prst="flowChartPunchedTape">
            <a:avLst/>
          </a:prstGeom>
          <a:solidFill>
            <a:srgbClr val="ff0000"/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PSL Script"/>
                <a:cs typeface="PSL Script"/>
              </a:rPr>
              <a:t>ต้อง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3" descr="positive-proof-global-warming-underwear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evol"/>
          <p:cNvPicPr/>
          <p:nvPr/>
        </p:nvPicPr>
        <p:blipFill>
          <a:blip r:embed="rId2">
            <a:lum contrast="40000"/>
          </a:blip>
          <a:stretch/>
        </p:blipFill>
        <p:spPr>
          <a:xfrm>
            <a:off x="611280" y="4081320"/>
            <a:ext cx="8208720" cy="205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3T04:34:26Z</dcterms:created>
  <dc:creator>com</dc:creator>
  <dc:description/>
  <dc:language>en-US</dc:language>
  <cp:lastModifiedBy>PVCOM</cp:lastModifiedBy>
  <dcterms:modified xsi:type="dcterms:W3CDTF">2022-10-27T00:54:46Z</dcterms:modified>
  <cp:revision>295</cp:revision>
  <dc:subject/>
  <dc:title>พิธีลงนามคำรับรองปฏิบัติราชการ   ประจำปีงบประมาณ  2549</dc:title>
</cp:coreProperties>
</file>